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  <p:sldId id="273" r:id="rId42"/>
    <p:sldId id="274" r:id="rId43"/>
    <p:sldId id="275" r:id="rId44"/>
    <p:sldId id="276" r:id="rId45"/>
    <p:sldId id="277" r:id="rId46"/>
    <p:sldId id="278" r:id="rId47"/>
    <p:sldId id="27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slide" Target="slides/slide18.xml"/><Relationship Id="rId43" Type="http://schemas.openxmlformats.org/officeDocument/2006/relationships/slide" Target="slides/slide19.xml"/><Relationship Id="rId44" Type="http://schemas.openxmlformats.org/officeDocument/2006/relationships/slide" Target="slides/slide20.xml"/><Relationship Id="rId45" Type="http://schemas.openxmlformats.org/officeDocument/2006/relationships/slide" Target="slides/slide21.xml"/><Relationship Id="rId46" Type="http://schemas.openxmlformats.org/officeDocument/2006/relationships/slide" Target="slides/slide22.xml"/><Relationship Id="rId47" Type="http://schemas.openxmlformats.org/officeDocument/2006/relationships/slide" Target="slides/slide23.xml"/><Relationship Id="rId48" Type="http://schemas.openxmlformats.org/officeDocument/2006/relationships/slide" Target="slides/slide2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8A13-82A1-41ED-A415-50B11F54F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30E-8568-4B2E-9227-9867A9B6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A638A-9346-412F-AEC3-F5EFB59C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8AAE2-4AE8-4EDC-9AB7-52777A6F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446DC-3A85-409E-A16D-96E18474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35488-61B9-42DC-AEDF-769458A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B11C0-B0E7-4DF9-BD29-FBF4415A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34C32-215A-43E3-BAE3-A2477BCA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AD901-702E-4122-BC8C-6496B932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B992C-4EDE-458B-8E56-12311399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47F6E-89D0-4F4F-8557-BCAD3D68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57F3F1-E8F3-4E51-9108-75A345F8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B5A-1510-4848-B047-11819970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BD6EE-71AA-481A-993B-175029F4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5C39A-7DB2-492E-B6BF-226EB56E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09A28-030D-4E35-8A50-59019938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B1BE0D-7CB8-4B9F-A40F-E4F72165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02752-8FEA-497C-AA4E-8C5C1D9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C17FE-16B1-48C6-890F-AB7CDE26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371C3-F0D6-42A9-9694-44FB5FB5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4BE11-C3E6-4045-884C-5BE2BDAB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9B485-DDD2-49BE-B6C5-5F51E6CB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7AFF9-22C3-405A-B493-FF55F357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802-0BEE-48A3-80B8-50D9F0FA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45314-CE66-4062-A976-7EF8BD1C9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29627-0A33-441B-A0FB-951E75F7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F4431-6C5F-407A-962D-C0F111CD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5D078-D038-4502-9FA3-50D1E143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FC754-58DA-46F1-9573-9CCF7E4C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CA81D-0B07-4045-82A4-429128BA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D11AD-3EB4-4E66-89A5-FEB4549A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F9086-E19D-45C3-A95F-A2C79D02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0F0E0-FF63-4443-9971-A649F2ED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22025-AC14-4E83-8662-1F12B832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253C-FC0C-4DAC-B5BA-9E44C024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AB7C1-521E-4331-91C7-DEF7276C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E9AB1-B0AB-4BC9-ADF3-928BD25C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1166F-D114-4DB6-9425-9C15458C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D7CF7-9E86-4DAD-BE7D-C61B508E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BC493-3414-44C6-AE02-AAF30F80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3E53D-ECD1-4E80-B256-BF711CED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F0E45-1A5C-463D-B01B-D720CBE9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5BEF0-F61E-4188-B259-F1E8FBAB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63932-BA6D-4CFB-BAB6-D0F569DE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C5EA7-DD9C-40AC-9402-C6F829A2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35CB-31AB-4627-B416-3F9C277A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CCF2D-97BE-4811-BE82-A0179F83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37DD9-E340-419E-A6C5-BB7DE7F4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A7FDE-26DB-4B6E-B812-DC7C2F69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7664C-64B0-4ECB-9E96-762AA72F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22833-9EBF-45C9-AAA5-D22AE59E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27082-FEDB-41BC-8E65-49A1BB7C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F1FD85-D5C8-4587-AE21-402A5626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57FD3-0C82-4049-85F2-327698BB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153B84-2316-4C34-93F0-C59B5F8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31361-42B9-4ADB-8888-D064CF73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3308-3FA0-4EB4-8657-CD4125CE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95FAD-04D8-45D2-9242-9DFA6C76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4C2CF7-EBFC-415F-AC5F-C1B89120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5EFD5-4305-4EDC-9633-26F9C9C5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76EDC-286D-4288-BC6B-0D0E282C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B30DC4-2BC0-4F45-804D-07E8755B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3C07F-A877-4B74-B7AF-BB6F8483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06751-7226-4D81-AAEE-B9BF1780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F51E8-D7C9-41E9-8818-1FDAAFA1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5367E-B792-4DD2-A4E0-D275171E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5A7FC-0536-43E4-B2CD-651A19D8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5E14-3581-4711-9AB3-E11BEBB8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02465-F15D-4EEF-A8CD-44BFE331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EC885-91D3-4F6D-BA4B-F642AC76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8FD021-911F-4F36-9C41-647DEF9B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C7168-35E9-4BEE-8370-CA8C935C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FA5298-18CF-4751-925D-4E1B3E71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FC45F-D7A0-4677-848D-B5607FA9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B4FF3-45FC-42E8-8D0C-48562DE2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BD080-A0B0-43FB-AEE6-B0182EB3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0C7C2-A374-45CE-A7CC-9EC81B90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7587ED-B61B-4A6E-8E00-714D24E1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C0FC-B245-4E5C-B419-13AA6A01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C2108-AA9E-482D-9A5B-EE7491EC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68289-FE6F-41A8-81C5-A902512B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7A821D-3A56-4F1F-B845-76DA5711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4F654E-50D4-4339-8FEF-DFE6941E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DD7C5-4D35-41EB-9901-DEDB4C3D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585AB-B040-4AEC-A630-689471A6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CA71D-F87D-4F11-A4B7-79FF5EB1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49F3A6-BA8C-449D-9EAF-6823DB8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1811D-3B9F-4191-B924-DC0B501D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FD3E5-F596-429F-9EF2-3A0A204F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658D-E34A-4C80-8F5F-D3C77B92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385EB-9B42-46E6-8C1C-716B06E2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D5AF87-66A9-46E0-813A-EA84274C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C9340-56F6-476C-8C4E-5CB4C4D2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8BB319-2BA7-4A30-9B7F-C2C57D42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E604EE-877F-47F2-95B2-83DBEE12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150E6-A84D-4182-BC05-B9A7667F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51EE0-4EAC-430A-ACEF-790ABCBC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FF887B-BF0B-44BB-9E84-3BC437A4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42C1B-2FAD-479A-9DB4-E49F2705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E3092-4269-45F3-8395-5F1E3179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DE5F-815B-48F8-A979-6A1D47F5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15831-D180-4F51-B18F-39032BD6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856E23-3DD6-414E-95D8-0D364D337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88AC32-6B73-484B-A2DF-9B439582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3393C6-DF1A-4A6F-A1AE-0B6A488E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535E7-4596-41FA-9768-E3A29B0C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20EB08-B42B-46FB-8A28-0559D9BF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C583B3-66F8-4889-9069-DC8367CE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B282C-4657-4B15-94FE-28D5D6A2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EDD31B-2A92-4FBD-BD84-21AB2415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5ECE9-B4B2-4A74-9E7B-C86804D0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5A4-ADD6-4C8B-A2DA-76ADD0AB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1EF2-4D19-4335-81AB-E89BBAE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0A3DF6-1770-4FFF-A981-57218BAE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1F0121-2B0F-4653-B04B-98D5B53B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C8A754-71C8-4542-98B9-6D76125A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E1AEF-4264-4219-B117-A7BF53FB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9E5E1-5C1C-47E1-B2B3-DD795554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0E64F-D1AC-499E-AD7D-F1CB0E62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EAF25-6670-4DA5-B106-6E065F99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6E43F9-74F9-46A4-A4B3-E80FA887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212EB1-6065-4341-945F-611F8A09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CB5450-7EDF-4A08-B4E0-1512641F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AC37-85EF-4BFC-827F-01A19AC8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DBAB6-1E13-47E0-8272-4FF7D9BE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3A268-0F20-4B94-A21D-2F649F58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81AD6-30E3-4D51-9DCC-E9D311F3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FDFDD2-1991-4965-A734-3D9257F1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D2BCD-569F-4D4E-88B6-364CACC3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7580A-3707-4423-8DC5-4E5F4A68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61040-21CA-41B3-A66B-8B7FCB90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77FBA-8518-44BA-9C86-E0CB134A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DE3F27-4A5C-4200-9384-CEF66532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18B48-7B3A-431F-827D-654D2325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05DB-CE41-40D3-87EE-A6EEE5B0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4A2377-47EB-4062-B729-CCD5E6FC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84CDF-77B1-49F2-B290-C34382C7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0E501-1D0F-4356-ACF4-534FBBCE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1A985-B3E0-4624-9023-4DB956B5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53DCB-8AAA-413C-8DCE-A40EF432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3063FB-C20F-481F-8728-115D3C04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8807D-51E6-47C3-A2DC-1C4801F4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33993-086C-4DE3-AAE5-CB9C5948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06596-417F-49A2-A8D9-EB456070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13620-D7AF-4561-B121-256B60D5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DFAA-D9AB-48B1-9C0E-F8E573E3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AA95D3-D49F-48FF-AA71-1BEC3EC2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91AE4-7EB0-45C8-9E73-43EC146B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8E8E61-B5F7-4730-AB6B-AEF8134E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889385-6ABD-4032-8A3F-42BACE84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0E72D4-0F6F-446F-9247-86B7EA3E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A30B2-AE33-44A4-A37F-178423B4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C808D-9430-4D4F-85BA-B82D558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4F45B5-2AD4-46B2-8F0F-592F5455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A48710-C836-4B78-85E6-227AFCF0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9B996-4B9F-4DB2-BFE1-A6885E74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9F8A-9039-4724-A6C3-A99A40EC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425DC7-64F7-4893-8E40-0A5DD7C4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3CDE47-8BF9-4472-AE70-93694E0F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26A27-DA30-432F-9F7D-39C1D7F4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087706-BAA6-430F-A4ED-C0A768D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544897-B9EB-4F47-9759-DB0CD3A8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A6909D-D4B9-47CD-B2C3-FF1A8ABD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200F7-4C0E-4A69-951C-24728129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0082EF-59E1-4910-B846-BD9980F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E13764-2FE8-4AA9-A930-5923E00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1964D-836F-466D-9032-ED7BFABD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2399C-B3AF-4267-B2FD-F53CF16E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76BEA-BB47-44CA-B121-07F1801B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A00C1D-449B-4F33-A185-A78B97B0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17502-48DF-4A23-9183-B6A75D22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EB14CC-265D-4A2A-9A87-1D27D244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B5CBAC-3350-4AF6-B87D-F5C768B3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7B3FAF-5BDD-40C9-A8B3-461140EA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2A70F6-3B7D-41AC-BD7D-E6F15B2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B2E8DC-C76C-4DDB-AF7E-97B32233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560525-2DF3-4EBE-B242-E1724B94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806AA5-E4F6-47CB-8476-635D7C70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24106-A22F-4900-BCA6-0C1C032A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49886D-F50C-4125-89F3-16887210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D7C83E-CFF9-4946-8820-880F7E82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6847F5-F7B3-4E1E-B5E7-DC8F1603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EBC4DF-DFC9-44BE-8160-CE211AE4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E1F793-AE35-4FA7-A885-3A281420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2E7387-2EC4-4FC6-BB61-21985131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15FAB2-CBE3-445A-8E88-A4808332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987C73-DEBB-4F90-8ECA-B791F0C2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5E0742-EF17-4396-BA9F-51B43A4C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805753-EABF-4C9C-B40F-2763676D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15C3-24FE-4294-9BDB-90D93F58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7882B4-8474-4203-8A87-A83D152E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2FEC8F-CC03-4B5A-A401-74D6DD2F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C21521-BD88-44DF-A069-34C701BC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600AA3-90F2-423A-8E19-450FE157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D6C135-B79D-468C-B35B-C57FFD4F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E493FB-1B94-4B7C-B50B-230E2D13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27F95B-F76A-4EFB-9541-D0AEAC3B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BA66-C14F-4D68-82F4-9E216190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E97B-6906-44F3-B476-F41E62EE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481-6238-49A2-899D-C0D2EBE5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242C-30DF-4052-9E9A-1FC430D6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2B7B-66B6-4F01-B19D-58BF5F5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A974-0255-42E6-A389-1890800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79FA-5A4F-4B1C-AA18-879CF2B4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5B9E0-AF2F-4A2E-A236-FE6E327E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89B9-6D32-4DE2-BE70-433DC45E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D12AD-5EC5-43B2-AC6E-A4F883B11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8989E-E33D-44AA-A85C-8279D37F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3C5C3-4377-4787-9DC0-BE96CB00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5327-4589-4BDA-B86F-B5171E05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A7BA-E411-4871-AF01-BE762210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DE410-3FA7-4B59-AAA5-53477FBD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5241-733C-421A-888E-AB2351E1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56C11-EC35-46F6-82A5-FF38BA35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B899A-1E6C-4866-8F3B-17D09DFB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8D227-BA2F-4EAD-8C05-4D9764F7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F248-5F8D-412A-8426-C04A1CC5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B619C-E4A4-48AC-93B0-DB26395F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A4AB8-C72E-4007-B5FF-8A744DB5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211F3-A661-4F96-82E3-1568AA90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8B20C-E5D8-48A7-BDAE-87A9414A8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363-071C-4DED-A86B-B91C8096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416C7-71CC-481F-AB8D-6F5BEB6F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17A7D-5B0F-44E1-80D7-BFB3CDF5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538D-14F6-42AD-88EF-D6217E26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2B1B8-F49A-4FB5-B573-80AACA7A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CB67-FEDE-4A44-988A-397EB0F3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52E97-1995-40FB-8972-0CD8D0C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F2950-53DF-47B4-82D7-40152BB2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B3ED5-47A2-4A47-9EFF-D8911D39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A385D-AE5B-49AD-A629-8F5B9AD1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E0589-0CB0-4700-9B2D-89F5A21B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F1F-ECF5-47D8-924C-FF11C43C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29250-9A3B-4AFE-B5FF-6445EA62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7D4F8-9769-4952-97EA-2D23A709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65EF6-7193-4017-8AE0-DD13A968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8CFCB-8315-4BBC-9097-65FE7958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22090-3988-4D6D-903C-7D6528F4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7E414-0568-46DB-93C4-096FEC28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71EA5-07B7-4897-A2A7-9C42D281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84EC7-19E0-40C9-A033-B1113C72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88442-4CC2-423F-AC08-25CA6E16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7F85C-AFE7-41C7-B03E-37C471A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516-65BC-4C1D-98B1-556A03D1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B48FA-D9EF-41AC-A970-AB54690F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5422-2508-4099-B187-57ACDDAD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F471-B053-40D8-A805-F319CA3C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F3AB9-8DF3-4A50-9380-A8FB0A4B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C4333-BC69-4BAE-B063-64E07186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44558-D82E-49B6-9E1E-FE8DE1FF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C3AC2-DED8-44DC-A993-CA038E7F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1CF2A-56D7-4646-8B6E-755944C4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A7184-4A5D-4C42-99CD-695BE378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543B2-F83E-4D5C-8997-D6A6C802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C94F-3008-4C68-931C-B0E1C86A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8D758-DEF2-4778-966A-4E02D240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F89AF-EC8D-44CA-B1F2-B6269B32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F741C-8888-4A39-A34B-B0614447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BB56F-B99F-459A-9EAE-9ABC06B9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67078-83AF-4ED9-9C42-8C775A1C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CBFEB-6AC8-4FB6-AC01-34607731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53901-FC07-4B91-BFF0-8C58E021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58995-90B2-40D2-80A6-12A35354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5C034-F570-46DC-8D68-3536F025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D7905-2F2E-4E7C-B549-A1538B47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8197-63DE-46B2-826B-094299A0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F9D0E-26B1-47F7-8173-7A4A1CC9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B068C-7B20-47F6-82FB-E9B85984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4E2D0-2827-4348-B78F-842619D4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F7BB-18DD-44F8-998D-2E9F1B16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220E-C169-4D3E-A531-FA0926E0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1B638-D686-4CDF-85DF-CD0FF0FE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31ED-104D-4E8A-9B0F-AB682667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4088A-E5D2-401C-8640-352D3392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62CC5-EB43-4063-9195-F809B92E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A67D4-DBC3-4D13-A346-92FCB2D4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5C70-30A4-4A6E-99A4-DB48DF6D89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3B6F-84ED-4E72-B5A1-EA873BFF7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1B6B-4B50-4EE2-8C52-92BC73A25F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871F-C88B-4BB5-A126-813BE9CEA1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2A37-04DE-400A-835E-80C6061A79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77DC-3A1F-4A04-9D76-495BCBD2E1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0192-B430-48FE-B924-B483CC999F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0188-FE90-43C1-A18F-CF35E63868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0E17-2971-466D-ABEA-D9606968C9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B585-1639-41EC-9451-664AEA8DAB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BE5A-1C85-4B03-AC45-6089EC26C1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E5B5-3B77-4599-A0EB-231B29D883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E697-CAC1-4DC8-8E6A-7FE42B87A8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046F-0546-4C17-A5E0-BC93E7F3B0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B141-868F-4818-8644-7CCF926552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527E-6F3A-4B77-825E-A812B0B348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73AE-FD80-4E4B-B0DF-5E183631BB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E9FB-ADD8-4BAE-820E-E42D6C7500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6C13-ACC8-40DD-AA25-6837838019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57AB-03AA-4B96-A358-1F51B5357E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26FD-B029-45B8-96A4-129419639E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2334-1101-4CCF-9839-6E09B060C36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A2D8-1B7C-4D26-B92C-30848EA5A9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E8F7-C6D7-4258-883E-681F8C2889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390C-FA51-44BF-AB0B-827CA6FA7D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1B56-7F21-4789-8413-9ABDD2BE72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807D-4334-4430-B3D9-426B3E4346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02E8-3977-48E4-A652-87E478BA7E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D34C-5737-4853-A3DB-78413373D3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CFDC-ADE6-4998-91D7-4FA188561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E8DE-28D6-43A7-90CF-E360E99754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32B4-8233-4663-9086-3F3E4F643B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7306-06F5-402F-A67B-E9DCB5F8E2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36DB-33BD-4BAF-8A89-B90CB3ED33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5155-D9D2-4277-97AC-9F27D53826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DC86-C76B-4383-AB8E-E5DD0DD9A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5934-FD05-4099-9E74-66A10EDF17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AFCF-FFB2-4173-8E1D-0D8B45F39E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9445-BE90-4306-B976-0A6BC1FD97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497B-1EFE-4598-B979-E5AC3629E2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01FB-696C-4A02-94BA-0935928558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5B0D-DB79-4DE5-BCA0-99BDE3386C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23840" y="2925720"/>
            <a:ext cx="8896320" cy="2590920"/>
          </a:xfrm>
          <a:prstGeom prst="rect">
            <a:avLst/>
          </a:prstGeom>
          <a:ln w="0">
            <a:noFill/>
          </a:ln>
        </p:spPr>
      </p:pic>
      <p:pic>
        <p:nvPicPr>
          <p:cNvPr id="1107" name="图片 5122" descr=""/>
          <p:cNvPicPr/>
          <p:nvPr/>
        </p:nvPicPr>
        <p:blipFill>
          <a:blip r:embed="rId2"/>
          <a:stretch/>
        </p:blipFill>
        <p:spPr>
          <a:xfrm>
            <a:off x="3635280" y="1052640"/>
            <a:ext cx="17622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图片 1" descr=""/>
          <p:cNvPicPr/>
          <p:nvPr/>
        </p:nvPicPr>
        <p:blipFill>
          <a:blip r:embed="rId1"/>
          <a:stretch/>
        </p:blipFill>
        <p:spPr>
          <a:xfrm>
            <a:off x="57240" y="922320"/>
            <a:ext cx="9029520" cy="551484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1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1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1" descr=""/>
          <p:cNvPicPr/>
          <p:nvPr/>
        </p:nvPicPr>
        <p:blipFill>
          <a:blip r:embed="rId4"/>
          <a:stretch/>
        </p:blipFill>
        <p:spPr>
          <a:xfrm>
            <a:off x="324000" y="5229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1" descr=""/>
          <p:cNvPicPr/>
          <p:nvPr/>
        </p:nvPicPr>
        <p:blipFill>
          <a:blip r:embed="rId5"/>
          <a:stretch/>
        </p:blipFill>
        <p:spPr>
          <a:xfrm>
            <a:off x="395280" y="5589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1" descr=""/>
          <p:cNvPicPr/>
          <p:nvPr/>
        </p:nvPicPr>
        <p:blipFill>
          <a:blip r:embed="rId6"/>
          <a:stretch/>
        </p:blipFill>
        <p:spPr>
          <a:xfrm>
            <a:off x="395280" y="6021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图片 1" descr=""/>
          <p:cNvPicPr/>
          <p:nvPr/>
        </p:nvPicPr>
        <p:blipFill>
          <a:blip r:embed="rId1"/>
          <a:stretch/>
        </p:blipFill>
        <p:spPr>
          <a:xfrm>
            <a:off x="343080" y="2247840"/>
            <a:ext cx="8458200" cy="236232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1" descr=""/>
          <p:cNvPicPr/>
          <p:nvPr/>
        </p:nvPicPr>
        <p:blipFill>
          <a:blip r:embed="rId2"/>
          <a:stretch/>
        </p:blipFill>
        <p:spPr>
          <a:xfrm>
            <a:off x="684360" y="22478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1" descr=""/>
          <p:cNvPicPr/>
          <p:nvPr/>
        </p:nvPicPr>
        <p:blipFill>
          <a:blip r:embed="rId3"/>
          <a:stretch/>
        </p:blipFill>
        <p:spPr>
          <a:xfrm>
            <a:off x="684360" y="26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1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1" descr=""/>
          <p:cNvPicPr/>
          <p:nvPr/>
        </p:nvPicPr>
        <p:blipFill>
          <a:blip r:embed="rId5"/>
          <a:stretch/>
        </p:blipFill>
        <p:spPr>
          <a:xfrm>
            <a:off x="684360" y="3789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1" descr=""/>
          <p:cNvPicPr/>
          <p:nvPr/>
        </p:nvPicPr>
        <p:blipFill>
          <a:blip r:embed="rId6"/>
          <a:stretch/>
        </p:blipFill>
        <p:spPr>
          <a:xfrm>
            <a:off x="684360" y="422100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6" name="图片 1" descr=""/>
          <p:cNvPicPr/>
          <p:nvPr/>
        </p:nvPicPr>
        <p:blipFill>
          <a:blip r:embed="rId1"/>
          <a:stretch/>
        </p:blipFill>
        <p:spPr>
          <a:xfrm>
            <a:off x="719280" y="484200"/>
            <a:ext cx="7534080" cy="63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图片 1" descr=""/>
          <p:cNvPicPr/>
          <p:nvPr/>
        </p:nvPicPr>
        <p:blipFill>
          <a:blip r:embed="rId1"/>
          <a:stretch/>
        </p:blipFill>
        <p:spPr>
          <a:xfrm>
            <a:off x="357120" y="971640"/>
            <a:ext cx="8427960" cy="558936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1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" descr=""/>
          <p:cNvPicPr/>
          <p:nvPr/>
        </p:nvPicPr>
        <p:blipFill>
          <a:blip r:embed="rId3"/>
          <a:stretch/>
        </p:blipFill>
        <p:spPr>
          <a:xfrm>
            <a:off x="611280" y="458136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1" descr=""/>
          <p:cNvPicPr/>
          <p:nvPr/>
        </p:nvPicPr>
        <p:blipFill>
          <a:blip r:embed="rId4"/>
          <a:stretch/>
        </p:blipFill>
        <p:spPr>
          <a:xfrm>
            <a:off x="611280" y="57340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1" name="图片 1" descr=""/>
          <p:cNvPicPr/>
          <p:nvPr/>
        </p:nvPicPr>
        <p:blipFill>
          <a:blip r:embed="rId1"/>
          <a:stretch/>
        </p:blipFill>
        <p:spPr>
          <a:xfrm>
            <a:off x="318960" y="2647800"/>
            <a:ext cx="8504280" cy="156240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1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3" name="Picture 1" descr=""/>
          <p:cNvPicPr/>
          <p:nvPr/>
        </p:nvPicPr>
        <p:blipFill>
          <a:blip r:embed="rId3"/>
          <a:stretch/>
        </p:blipFill>
        <p:spPr>
          <a:xfrm>
            <a:off x="611280" y="342900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图片 1" descr=""/>
          <p:cNvPicPr/>
          <p:nvPr/>
        </p:nvPicPr>
        <p:blipFill>
          <a:blip r:embed="rId1"/>
          <a:stretch/>
        </p:blipFill>
        <p:spPr>
          <a:xfrm>
            <a:off x="92160" y="858960"/>
            <a:ext cx="8961480" cy="5798880"/>
          </a:xfrm>
          <a:prstGeom prst="rect">
            <a:avLst/>
          </a:prstGeom>
          <a:ln w="0">
            <a:noFill/>
          </a:ln>
        </p:spPr>
      </p:pic>
      <p:pic>
        <p:nvPicPr>
          <p:cNvPr id="1175" name="Picture 1" descr=""/>
          <p:cNvPicPr/>
          <p:nvPr/>
        </p:nvPicPr>
        <p:blipFill>
          <a:blip r:embed="rId2"/>
          <a:stretch/>
        </p:blipFill>
        <p:spPr>
          <a:xfrm>
            <a:off x="468360" y="472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1" descr=""/>
          <p:cNvPicPr/>
          <p:nvPr/>
        </p:nvPicPr>
        <p:blipFill>
          <a:blip r:embed="rId3"/>
          <a:stretch/>
        </p:blipFill>
        <p:spPr>
          <a:xfrm>
            <a:off x="468360" y="551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7" name="图片 1" descr=""/>
          <p:cNvPicPr/>
          <p:nvPr/>
        </p:nvPicPr>
        <p:blipFill>
          <a:blip r:embed="rId1"/>
          <a:stretch/>
        </p:blipFill>
        <p:spPr>
          <a:xfrm>
            <a:off x="414360" y="1876320"/>
            <a:ext cx="8313840" cy="310536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1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1" descr=""/>
          <p:cNvPicPr/>
          <p:nvPr/>
        </p:nvPicPr>
        <p:blipFill>
          <a:blip r:embed="rId3"/>
          <a:stretch/>
        </p:blipFill>
        <p:spPr>
          <a:xfrm>
            <a:off x="755640" y="306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1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431640" cy="3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图片 1" descr=""/>
          <p:cNvPicPr/>
          <p:nvPr/>
        </p:nvPicPr>
        <p:blipFill>
          <a:blip r:embed="rId1"/>
          <a:stretch/>
        </p:blipFill>
        <p:spPr>
          <a:xfrm>
            <a:off x="92160" y="743040"/>
            <a:ext cx="8770680" cy="3503520"/>
          </a:xfrm>
          <a:prstGeom prst="rect">
            <a:avLst/>
          </a:prstGeom>
          <a:ln w="0">
            <a:noFill/>
          </a:ln>
        </p:spPr>
      </p:pic>
      <p:pic>
        <p:nvPicPr>
          <p:cNvPr id="1182" name="图片 2" descr=""/>
          <p:cNvPicPr/>
          <p:nvPr/>
        </p:nvPicPr>
        <p:blipFill>
          <a:blip r:embed="rId2"/>
          <a:stretch/>
        </p:blipFill>
        <p:spPr>
          <a:xfrm>
            <a:off x="130320" y="4309920"/>
            <a:ext cx="8885160" cy="19432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1" descr=""/>
          <p:cNvPicPr/>
          <p:nvPr/>
        </p:nvPicPr>
        <p:blipFill>
          <a:blip r:embed="rId3"/>
          <a:stretch/>
        </p:blipFill>
        <p:spPr>
          <a:xfrm>
            <a:off x="3059280" y="148428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1" descr=""/>
          <p:cNvPicPr/>
          <p:nvPr/>
        </p:nvPicPr>
        <p:blipFill>
          <a:blip r:embed="rId4"/>
          <a:stretch/>
        </p:blipFill>
        <p:spPr>
          <a:xfrm>
            <a:off x="1547640" y="22622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1" descr=""/>
          <p:cNvPicPr/>
          <p:nvPr/>
        </p:nvPicPr>
        <p:blipFill>
          <a:blip r:embed="rId5"/>
          <a:stretch/>
        </p:blipFill>
        <p:spPr>
          <a:xfrm>
            <a:off x="4356000" y="26510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1" descr=""/>
          <p:cNvPicPr/>
          <p:nvPr/>
        </p:nvPicPr>
        <p:blipFill>
          <a:blip r:embed="rId6"/>
          <a:stretch/>
        </p:blipFill>
        <p:spPr>
          <a:xfrm>
            <a:off x="6300720" y="380376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7" name="图片 1" descr=""/>
          <p:cNvPicPr/>
          <p:nvPr/>
        </p:nvPicPr>
        <p:blipFill>
          <a:blip r:embed="rId1"/>
          <a:stretch/>
        </p:blipFill>
        <p:spPr>
          <a:xfrm>
            <a:off x="666720" y="1157400"/>
            <a:ext cx="7810560" cy="45432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1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9" name="图片 1" descr=""/>
          <p:cNvPicPr/>
          <p:nvPr/>
        </p:nvPicPr>
        <p:blipFill>
          <a:blip r:embed="rId1"/>
          <a:stretch/>
        </p:blipFill>
        <p:spPr>
          <a:xfrm>
            <a:off x="490680" y="1166760"/>
            <a:ext cx="8161200" cy="452448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1" descr=""/>
          <p:cNvPicPr/>
          <p:nvPr/>
        </p:nvPicPr>
        <p:blipFill>
          <a:blip r:embed="rId2"/>
          <a:stretch/>
        </p:blipFill>
        <p:spPr>
          <a:xfrm>
            <a:off x="3780000" y="2908440"/>
            <a:ext cx="863280" cy="34920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1" descr=""/>
          <p:cNvPicPr/>
          <p:nvPr/>
        </p:nvPicPr>
        <p:blipFill>
          <a:blip r:embed="rId3"/>
          <a:stretch/>
        </p:blipFill>
        <p:spPr>
          <a:xfrm>
            <a:off x="3564000" y="3298680"/>
            <a:ext cx="1152360" cy="34956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" descr=""/>
          <p:cNvPicPr/>
          <p:nvPr/>
        </p:nvPicPr>
        <p:blipFill>
          <a:blip r:embed="rId4"/>
          <a:stretch/>
        </p:blipFill>
        <p:spPr>
          <a:xfrm>
            <a:off x="7020000" y="4076640"/>
            <a:ext cx="1152360" cy="34920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" descr=""/>
          <p:cNvPicPr/>
          <p:nvPr/>
        </p:nvPicPr>
        <p:blipFill>
          <a:blip r:embed="rId5"/>
          <a:stretch/>
        </p:blipFill>
        <p:spPr>
          <a:xfrm>
            <a:off x="2166840" y="4883040"/>
            <a:ext cx="1152720" cy="3492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" descr=""/>
          <p:cNvPicPr/>
          <p:nvPr/>
        </p:nvPicPr>
        <p:blipFill>
          <a:blip r:embed="rId6"/>
          <a:stretch/>
        </p:blipFill>
        <p:spPr>
          <a:xfrm>
            <a:off x="2556000" y="5284800"/>
            <a:ext cx="115236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3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03320" y="758880"/>
            <a:ext cx="2589120" cy="59040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103320" y="1522440"/>
            <a:ext cx="8732880" cy="52293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3"/>
          <a:stretch/>
        </p:blipFill>
        <p:spPr>
          <a:xfrm>
            <a:off x="611280" y="63198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4"/>
          <a:stretch/>
        </p:blipFill>
        <p:spPr>
          <a:xfrm>
            <a:off x="2340000" y="630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5"/>
          <a:stretch/>
        </p:blipFill>
        <p:spPr>
          <a:xfrm>
            <a:off x="4067280" y="6308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6"/>
          <a:stretch/>
        </p:blipFill>
        <p:spPr>
          <a:xfrm>
            <a:off x="5796000" y="63230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7"/>
          <a:stretch/>
        </p:blipFill>
        <p:spPr>
          <a:xfrm>
            <a:off x="7451640" y="632304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5" name="图片 2" descr=""/>
          <p:cNvPicPr/>
          <p:nvPr/>
        </p:nvPicPr>
        <p:blipFill>
          <a:blip r:embed="rId1"/>
          <a:stretch/>
        </p:blipFill>
        <p:spPr>
          <a:xfrm>
            <a:off x="571680" y="695160"/>
            <a:ext cx="8001000" cy="609444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" descr=""/>
          <p:cNvPicPr/>
          <p:nvPr/>
        </p:nvPicPr>
        <p:blipFill>
          <a:blip r:embed="rId2"/>
          <a:stretch/>
        </p:blipFill>
        <p:spPr>
          <a:xfrm>
            <a:off x="2987640" y="517212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" descr=""/>
          <p:cNvPicPr/>
          <p:nvPr/>
        </p:nvPicPr>
        <p:blipFill>
          <a:blip r:embed="rId3"/>
          <a:stretch/>
        </p:blipFill>
        <p:spPr>
          <a:xfrm>
            <a:off x="3276720" y="636588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图片 1" descr=""/>
          <p:cNvPicPr/>
          <p:nvPr/>
        </p:nvPicPr>
        <p:blipFill>
          <a:blip r:embed="rId1"/>
          <a:stretch/>
        </p:blipFill>
        <p:spPr>
          <a:xfrm>
            <a:off x="814320" y="1654200"/>
            <a:ext cx="4046760" cy="23241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2" descr=""/>
          <p:cNvPicPr/>
          <p:nvPr/>
        </p:nvPicPr>
        <p:blipFill>
          <a:blip r:embed="rId2"/>
          <a:stretch/>
        </p:blipFill>
        <p:spPr>
          <a:xfrm>
            <a:off x="936720" y="4060800"/>
            <a:ext cx="5341680" cy="38088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" descr=""/>
          <p:cNvPicPr/>
          <p:nvPr/>
        </p:nvPicPr>
        <p:blipFill>
          <a:blip r:embed="rId3"/>
          <a:stretch/>
        </p:blipFill>
        <p:spPr>
          <a:xfrm>
            <a:off x="2916360" y="198900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" descr=""/>
          <p:cNvPicPr/>
          <p:nvPr/>
        </p:nvPicPr>
        <p:blipFill>
          <a:blip r:embed="rId4"/>
          <a:stretch/>
        </p:blipFill>
        <p:spPr>
          <a:xfrm>
            <a:off x="2411280" y="31845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1" descr=""/>
          <p:cNvPicPr/>
          <p:nvPr/>
        </p:nvPicPr>
        <p:blipFill>
          <a:blip r:embed="rId5"/>
          <a:stretch/>
        </p:blipFill>
        <p:spPr>
          <a:xfrm>
            <a:off x="1979640" y="3573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7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图片 1" descr=""/>
          <p:cNvPicPr/>
          <p:nvPr/>
        </p:nvPicPr>
        <p:blipFill>
          <a:blip r:embed="rId1"/>
          <a:stretch/>
        </p:blipFill>
        <p:spPr>
          <a:xfrm>
            <a:off x="181080" y="674640"/>
            <a:ext cx="887544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图片 1" descr=""/>
          <p:cNvPicPr/>
          <p:nvPr/>
        </p:nvPicPr>
        <p:blipFill>
          <a:blip r:embed="rId1"/>
          <a:stretch/>
        </p:blipFill>
        <p:spPr>
          <a:xfrm>
            <a:off x="190440" y="2443320"/>
            <a:ext cx="8763120" cy="197136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1" descr=""/>
          <p:cNvPicPr/>
          <p:nvPr/>
        </p:nvPicPr>
        <p:blipFill>
          <a:blip r:embed="rId2"/>
          <a:stretch/>
        </p:blipFill>
        <p:spPr>
          <a:xfrm>
            <a:off x="900000" y="279396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1" descr=""/>
          <p:cNvPicPr/>
          <p:nvPr/>
        </p:nvPicPr>
        <p:blipFill>
          <a:blip r:embed="rId3"/>
          <a:stretch/>
        </p:blipFill>
        <p:spPr>
          <a:xfrm>
            <a:off x="3924360" y="278136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1" descr=""/>
          <p:cNvPicPr/>
          <p:nvPr/>
        </p:nvPicPr>
        <p:blipFill>
          <a:blip r:embed="rId4"/>
          <a:stretch/>
        </p:blipFill>
        <p:spPr>
          <a:xfrm>
            <a:off x="6804000" y="279576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1" descr=""/>
          <p:cNvPicPr/>
          <p:nvPr/>
        </p:nvPicPr>
        <p:blipFill>
          <a:blip r:embed="rId5"/>
          <a:stretch/>
        </p:blipFill>
        <p:spPr>
          <a:xfrm>
            <a:off x="971640" y="319716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" descr=""/>
          <p:cNvPicPr/>
          <p:nvPr/>
        </p:nvPicPr>
        <p:blipFill>
          <a:blip r:embed="rId6"/>
          <a:stretch/>
        </p:blipFill>
        <p:spPr>
          <a:xfrm>
            <a:off x="3995640" y="319716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" descr=""/>
          <p:cNvPicPr/>
          <p:nvPr/>
        </p:nvPicPr>
        <p:blipFill>
          <a:blip r:embed="rId7"/>
          <a:stretch/>
        </p:blipFill>
        <p:spPr>
          <a:xfrm>
            <a:off x="6875640" y="3198960"/>
            <a:ext cx="1728720" cy="34920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" descr=""/>
          <p:cNvPicPr/>
          <p:nvPr/>
        </p:nvPicPr>
        <p:blipFill>
          <a:blip r:embed="rId8"/>
          <a:stretch/>
        </p:blipFill>
        <p:spPr>
          <a:xfrm>
            <a:off x="900000" y="358632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" descr=""/>
          <p:cNvPicPr/>
          <p:nvPr/>
        </p:nvPicPr>
        <p:blipFill>
          <a:blip r:embed="rId9"/>
          <a:stretch/>
        </p:blipFill>
        <p:spPr>
          <a:xfrm>
            <a:off x="3924360" y="3586320"/>
            <a:ext cx="1439640" cy="34920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1" descr=""/>
          <p:cNvPicPr/>
          <p:nvPr/>
        </p:nvPicPr>
        <p:blipFill>
          <a:blip r:embed="rId10"/>
          <a:stretch/>
        </p:blipFill>
        <p:spPr>
          <a:xfrm>
            <a:off x="6804000" y="3587760"/>
            <a:ext cx="1440000" cy="3492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1" descr=""/>
          <p:cNvPicPr/>
          <p:nvPr/>
        </p:nvPicPr>
        <p:blipFill>
          <a:blip r:embed="rId11"/>
          <a:stretch/>
        </p:blipFill>
        <p:spPr>
          <a:xfrm>
            <a:off x="826920" y="3962520"/>
            <a:ext cx="1440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9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9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4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图片 1" descr=""/>
          <p:cNvPicPr/>
          <p:nvPr/>
        </p:nvPicPr>
        <p:blipFill>
          <a:blip r:embed="rId1"/>
          <a:stretch/>
        </p:blipFill>
        <p:spPr>
          <a:xfrm>
            <a:off x="138240" y="100080"/>
            <a:ext cx="8866080" cy="665784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1" descr=""/>
          <p:cNvPicPr/>
          <p:nvPr/>
        </p:nvPicPr>
        <p:blipFill>
          <a:blip r:embed="rId2"/>
          <a:stretch/>
        </p:blipFill>
        <p:spPr>
          <a:xfrm>
            <a:off x="3635280" y="3645000"/>
            <a:ext cx="5329440" cy="3492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1" descr=""/>
          <p:cNvPicPr/>
          <p:nvPr/>
        </p:nvPicPr>
        <p:blipFill>
          <a:blip r:embed="rId3"/>
          <a:stretch/>
        </p:blipFill>
        <p:spPr>
          <a:xfrm>
            <a:off x="179280" y="4048200"/>
            <a:ext cx="8785440" cy="3492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1" descr=""/>
          <p:cNvPicPr/>
          <p:nvPr/>
        </p:nvPicPr>
        <p:blipFill>
          <a:blip r:embed="rId4"/>
          <a:stretch/>
        </p:blipFill>
        <p:spPr>
          <a:xfrm>
            <a:off x="150840" y="443700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1" descr=""/>
          <p:cNvPicPr/>
          <p:nvPr/>
        </p:nvPicPr>
        <p:blipFill>
          <a:blip r:embed="rId5"/>
          <a:stretch/>
        </p:blipFill>
        <p:spPr>
          <a:xfrm>
            <a:off x="142920" y="482616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1" descr=""/>
          <p:cNvPicPr/>
          <p:nvPr/>
        </p:nvPicPr>
        <p:blipFill>
          <a:blip r:embed="rId6"/>
          <a:stretch/>
        </p:blipFill>
        <p:spPr>
          <a:xfrm>
            <a:off x="114480" y="5214960"/>
            <a:ext cx="8785080" cy="349200"/>
          </a:xfrm>
          <a:prstGeom prst="rect">
            <a:avLst/>
          </a:prstGeom>
          <a:ln w="0">
            <a:noFill/>
          </a:ln>
        </p:spPr>
      </p:pic>
      <p:pic>
        <p:nvPicPr>
          <p:cNvPr id="1221" name="Picture 1" descr=""/>
          <p:cNvPicPr/>
          <p:nvPr/>
        </p:nvPicPr>
        <p:blipFill>
          <a:blip r:embed="rId7"/>
          <a:stretch/>
        </p:blipFill>
        <p:spPr>
          <a:xfrm>
            <a:off x="136440" y="5618160"/>
            <a:ext cx="87854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6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1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328680" y="1347840"/>
            <a:ext cx="8485200" cy="41623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611280" y="328464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611280" y="3789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684360" y="5157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333360" y="860400"/>
            <a:ext cx="8477280" cy="545796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2" descr=""/>
          <p:cNvPicPr/>
          <p:nvPr/>
        </p:nvPicPr>
        <p:blipFill>
          <a:blip r:embed="rId2"/>
          <a:stretch/>
        </p:blipFill>
        <p:spPr>
          <a:xfrm>
            <a:off x="1708200" y="6396120"/>
            <a:ext cx="4084560" cy="3524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611280" y="220500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684360" y="3141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611280" y="5013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414360" y="2995560"/>
            <a:ext cx="8313840" cy="8668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2"/>
          <a:stretch/>
        </p:blipFill>
        <p:spPr>
          <a:xfrm>
            <a:off x="611280" y="299736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114480" y="1461960"/>
            <a:ext cx="8915400" cy="39340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2"/>
          <a:stretch/>
        </p:blipFill>
        <p:spPr>
          <a:xfrm>
            <a:off x="5435640" y="2593800"/>
            <a:ext cx="1224000" cy="3495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3"/>
          <a:stretch/>
        </p:blipFill>
        <p:spPr>
          <a:xfrm>
            <a:off x="5435640" y="3127320"/>
            <a:ext cx="79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4"/>
          <a:stretch/>
        </p:blipFill>
        <p:spPr>
          <a:xfrm>
            <a:off x="5940360" y="3716280"/>
            <a:ext cx="1079640" cy="34920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5"/>
          <a:stretch/>
        </p:blipFill>
        <p:spPr>
          <a:xfrm>
            <a:off x="4284720" y="4811760"/>
            <a:ext cx="718920" cy="34920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6"/>
          <a:stretch/>
        </p:blipFill>
        <p:spPr>
          <a:xfrm>
            <a:off x="6516720" y="4811760"/>
            <a:ext cx="7192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1" descr=""/>
          <p:cNvPicPr/>
          <p:nvPr/>
        </p:nvPicPr>
        <p:blipFill>
          <a:blip r:embed="rId1"/>
          <a:stretch/>
        </p:blipFill>
        <p:spPr>
          <a:xfrm>
            <a:off x="162000" y="654120"/>
            <a:ext cx="8820000" cy="611496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539640" y="168588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4"/>
          <a:stretch/>
        </p:blipFill>
        <p:spPr>
          <a:xfrm>
            <a:off x="539640" y="3645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5"/>
          <a:stretch/>
        </p:blipFill>
        <p:spPr>
          <a:xfrm>
            <a:off x="539640" y="486900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6"/>
          <a:stretch/>
        </p:blipFill>
        <p:spPr>
          <a:xfrm>
            <a:off x="468360" y="558972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图片 1" descr=""/>
          <p:cNvPicPr/>
          <p:nvPr/>
        </p:nvPicPr>
        <p:blipFill>
          <a:blip r:embed="rId1"/>
          <a:stretch/>
        </p:blipFill>
        <p:spPr>
          <a:xfrm>
            <a:off x="114480" y="390600"/>
            <a:ext cx="8915400" cy="63910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5"/>
          <a:stretch/>
        </p:blipFill>
        <p:spPr>
          <a:xfrm>
            <a:off x="395280" y="4005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6"/>
          <a:stretch/>
        </p:blipFill>
        <p:spPr>
          <a:xfrm>
            <a:off x="395280" y="5516640"/>
            <a:ext cx="43164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图片 1" descr=""/>
          <p:cNvPicPr/>
          <p:nvPr/>
        </p:nvPicPr>
        <p:blipFill>
          <a:blip r:embed="rId1"/>
          <a:stretch/>
        </p:blipFill>
        <p:spPr>
          <a:xfrm>
            <a:off x="163440" y="984240"/>
            <a:ext cx="8723520" cy="1562040"/>
          </a:xfrm>
          <a:prstGeom prst="rect">
            <a:avLst/>
          </a:prstGeom>
          <a:ln w="0">
            <a:noFill/>
          </a:ln>
        </p:spPr>
      </p:pic>
      <p:pic>
        <p:nvPicPr>
          <p:cNvPr id="1148" name="图片 2" descr=""/>
          <p:cNvPicPr/>
          <p:nvPr/>
        </p:nvPicPr>
        <p:blipFill>
          <a:blip r:embed="rId2"/>
          <a:stretch/>
        </p:blipFill>
        <p:spPr>
          <a:xfrm>
            <a:off x="249120" y="2598840"/>
            <a:ext cx="8190000" cy="39034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431640" cy="34956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4"/>
          <a:stretch/>
        </p:blipFill>
        <p:spPr>
          <a:xfrm>
            <a:off x="395280" y="177336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5"/>
          <a:stretch/>
        </p:blipFill>
        <p:spPr>
          <a:xfrm>
            <a:off x="539640" y="2565360"/>
            <a:ext cx="432000" cy="3492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6"/>
          <a:stretch/>
        </p:blipFill>
        <p:spPr>
          <a:xfrm>
            <a:off x="468360" y="3357720"/>
            <a:ext cx="431640" cy="3492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7"/>
          <a:stretch/>
        </p:blipFill>
        <p:spPr>
          <a:xfrm>
            <a:off x="539640" y="4869000"/>
            <a:ext cx="43200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52:01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